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4DD-365A-4120-B736-A043572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F0B-82DE-49D4-9436-0F78757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24-6D82-4404-A5BF-AEE5993E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F8C-B3E6-40F8-B124-E283D8F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91A-2ADA-478A-AAC1-A10B72C1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682-75A3-4025-9C30-2FB1534F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9BE-8A41-45EA-B20A-530C731C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445-D1DE-4A3F-AEFD-8FCC105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DA2-6289-4455-B2E0-91FD16D9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A2D-AD9C-431A-9223-1987A94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DC1-0324-492F-8815-0FF11E6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E1E-4758-4F19-AD69-D1F6FF0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1732-F433-41EF-A270-E65870B2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nting function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star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8:55:45Z</dcterms:created>
  <dc:creator>Administrator</dc:creator>
  <dc:description/>
  <dc:language>en-US</dc:language>
  <cp:lastModifiedBy>Administrator</cp:lastModifiedBy>
  <dcterms:modified xsi:type="dcterms:W3CDTF">2003-02-28T18:56:07Z</dcterms:modified>
  <cp:revision>1</cp:revision>
  <dc:subject/>
  <dc:title>The printing function works</dc:title>
</cp:coreProperties>
</file>